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8E9-1F97-473C-882C-85EA3EE8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DD4-C5B5-443D-93E8-B91E55DE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BC4-4795-47FE-A362-B386B985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1CC-1D96-45AF-A222-9A1D91C9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567-78DE-4A62-A3C1-1576D952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F22-CB0E-42B5-9F32-77F0C038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73D-F614-4EB1-A3E8-9867765A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ED2-0005-45AD-A4DF-E2C5D5ED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C27-DC43-4635-A9F6-017A1083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AB1-B09C-47C9-BF0E-CD524EC1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09A-2DC0-4E02-B994-FAB13DFA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7DB-B883-4037-982D-D80A0FED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3C2D-F92B-4758-BA4C-EE829852E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ide 1 – Part of Plants: Ro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lants have structures that can be described as roots which gather water from the soil. In the water other necessary molecules are also absorbed such as nitrate or amm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s prevent the plant from falling over acting like the anchor into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r the root system the easier it will be for the plant to absorb water and nutri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657600" cy="437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048120" y="3808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ot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s of Plants: 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s connect the roots to the leaves, as well as support the leaves into the a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the stem are tube-like tissues that transport the necessary molecules back and f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y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issues that transport water and other nutrients from the soil up to the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lo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issues that transport sugars from the leaves down to the rest of the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29720" cy="5762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676520" y="2286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 Section of a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s of Plants: Leaves part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s carry out photosynthe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er cells of the leaf are the epidermis. On the underside of leaves are opening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om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. sto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oma are surrounded by cell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uard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open and close to allow carbon dioxide to enter and oxygen to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day when temperatures are hottest the guard cells close to prev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i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evaporation of water out of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s of Plants: Leaves Part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p surface of each leaf is covered in a waxy coating calle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is prevents any transpiration through the top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the internal portion of the leaf are cells that contain many chloroplasts. These cells make up tissue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sophy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y conduct photosynthesis and produce sugar for the plant to 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leaves are veins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scular bun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se contain the xylem and phloem tissues which bring water into the leaf and take sug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09560" y="33480"/>
            <a:ext cx="772488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7:52:58Z</dcterms:created>
  <dc:creator>AISD</dc:creator>
  <dc:description/>
  <dc:language>en-US</dc:language>
  <cp:lastModifiedBy>Chris</cp:lastModifiedBy>
  <dcterms:modified xsi:type="dcterms:W3CDTF">2010-07-13T16:34:47Z</dcterms:modified>
  <cp:revision>4</cp:revision>
  <dc:subject/>
  <dc:title>Slide 1 – Part of Plants: Roots</dc:title>
</cp:coreProperties>
</file>